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C57-3A7F-4281-977B-BE8C2BDE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D5E-AFCD-463E-A0C2-7B5AEFF5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8A1-6DA3-4908-AD41-9F3FF940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985-70EC-4220-9B6C-CCA0B2AE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78B9-3FC6-4F56-B4E4-9821649E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D6BF-D26E-48C6-B544-D9BE49E3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B834-4004-4E88-A131-D3774AA5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47AB-44EC-47C8-8F61-16435CA1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1C68-233E-42CA-B397-11E15BF4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926B-FCD5-41AA-B088-79DF925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4765-FC8D-46E4-8E22-C65D4ADC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C34-0A56-4372-A6C4-42603D89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4982-96A8-46A2-86B1-FB1D2C82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C31A-F013-4E6D-BE35-C2019A1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5BE5-578E-4C8E-9E71-C1B6122D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6EEF-92BB-4971-9F0A-8E0F85CE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9CBC-30C3-4BB2-9BF8-DD3AC21D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100-C315-4C39-8EAB-CCCFA23C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398-B045-48CE-B174-2955450B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ED3-8F84-4C35-970C-44CC839E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666-2371-4D99-B48C-5B8E06D5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01E-CE85-495F-9F06-F0A520AD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983-E7F1-4062-81DB-BD947454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7FE-79B5-4634-8E86-29343B97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3262-334C-4EEE-858F-A59C82CAD65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E8FD-8E18-471F-B32F-150472937A8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Meine Reise nach Deutschland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tja Gehris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utsch 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0" t="19237" r="17817" b="6212"/>
          <a:stretch/>
        </p:blipFill>
        <p:spPr>
          <a:xfrm>
            <a:off x="304920" y="1143000"/>
            <a:ext cx="5657760" cy="45259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96320" y="601992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r gehen von Chicago über Polen, zu Berl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24075" t="35360" r="33334" b="29291"/>
          <a:stretch/>
        </p:blipFill>
        <p:spPr>
          <a:xfrm>
            <a:off x="533520" y="1447920"/>
            <a:ext cx="5790960" cy="2643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378080" y="5518080"/>
            <a:ext cx="68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Ich ging zum Musical Theater dann auf die jüdische Meus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rcRect l="0" t="18521" r="0" b="5719"/>
          <a:stretch/>
        </p:blipFill>
        <p:spPr>
          <a:xfrm>
            <a:off x="228600" y="228600"/>
            <a:ext cx="85345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696ca"/>
                </a:solidFill>
                <a:latin typeface="Arial"/>
              </a:rPr>
              <a:t>Ich bin zu Besuch in Berli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ch besuchte die Berlin Wall mit meiner Mutte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ch besuchte die Berliner Dom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s dem 19. Jahrhundert)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achdem die Berlin Wal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ch besuchte die Gendarmenmarkt. (Gendarmenmarkt neben dem Konzerthau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ch besuchte die Zoologischer Gart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ch besuchte die  Antiquitatenmei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rcRect l="65628" t="27343" r="5624" b="23438"/>
          <a:stretch/>
        </p:blipFill>
        <p:spPr>
          <a:xfrm>
            <a:off x="762120" y="1371600"/>
            <a:ext cx="3504960" cy="48006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4498920" y="205740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unserm Hotel gibt es das Restauran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s Café, Frei Frühstück und Frei Wif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79360" y="338472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Ich war über Nacht in der Host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$3,7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$837.60 (flight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$214.24 (hote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$43.44 (bus ticket/ City Circle Tour And River Circl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$2604.7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31:59Z</dcterms:created>
  <dc:creator>CUSD220</dc:creator>
  <dc:description/>
  <dc:language>en-US</dc:language>
  <cp:lastModifiedBy>sgehrisch</cp:lastModifiedBy>
  <dcterms:modified xsi:type="dcterms:W3CDTF">2012-01-09T04:55:13Z</dcterms:modified>
  <cp:revision>4</cp:revision>
  <dc:subject/>
  <dc:title>Slide 1</dc:title>
</cp:coreProperties>
</file>